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949-0FEF-429E-AB51-D44C8C04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8A71-2486-4D9C-8D64-67B397CD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8FD7-1162-4B61-9D6C-FD2613FA5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D009-00EC-4851-814C-6F64490CB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8D2C-2A68-47EF-B730-ECAD75CF08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6AF8-DE82-4727-97FD-7036A3CC4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93AA-E6B5-45CC-948C-CE655194E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1800-725F-4587-BA9F-F29612255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42CB8-C850-4D3B-BB8A-4BF349DA43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9BD0-4829-4689-BCB5-D7E07D287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E86DD-AA6A-4816-B792-687A4BF01C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08EE-A769-400E-A831-7DB37D3F7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8414-6492-43EA-BF46-54FD734CA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2093-8D44-4188-987E-E3F0F6AC1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7A57-35B3-4179-9676-83DC15149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CED7-9BA6-4A24-ABAE-ED5208A5C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Six Sig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dern tool that bl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istical process contro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uctured project plan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BellCurve6Sigma"/>
          <p:cNvPicPr/>
          <p:nvPr/>
        </p:nvPicPr>
        <p:blipFill>
          <a:blip r:embed="rId1"/>
          <a:stretch/>
        </p:blipFill>
        <p:spPr>
          <a:xfrm>
            <a:off x="457200" y="2819520"/>
            <a:ext cx="3124080" cy="3200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aphicFrame>
        <p:nvGraphicFramePr>
          <p:cNvPr id="115" name=""/>
          <p:cNvGraphicFramePr/>
          <p:nvPr/>
        </p:nvGraphicFramePr>
        <p:xfrm>
          <a:off x="3809880" y="762120"/>
          <a:ext cx="5029200" cy="510696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295640"/>
                <a:gridCol w="1218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00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F0E11-3345-4A6D-9BC4-393875A137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6" name="AutoShape 2102"/>
          <p:cNvCxnSpPr/>
          <p:nvPr/>
        </p:nvCxnSpPr>
        <p:spPr>
          <a:xfrm flipH="1" rot="16200000">
            <a:off x="1355040" y="1159200"/>
            <a:ext cx="1139040" cy="1867680"/>
          </a:xfrm>
          <a:prstGeom prst="bentConnector2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velopment of ISO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058"/>
          <p:cNvSpPr/>
          <p:nvPr/>
        </p:nvSpPr>
        <p:spPr>
          <a:xfrm>
            <a:off x="7543800" y="388620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067" descr="clsi_logo"/>
          <p:cNvPicPr/>
          <p:nvPr/>
        </p:nvPicPr>
        <p:blipFill>
          <a:blip r:embed="rId1"/>
          <a:stretch/>
        </p:blipFill>
        <p:spPr>
          <a:xfrm>
            <a:off x="457200" y="1066680"/>
            <a:ext cx="1600200" cy="744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070"/>
          <p:cNvSpPr/>
          <p:nvPr/>
        </p:nvSpPr>
        <p:spPr>
          <a:xfrm flipV="1">
            <a:off x="4572000" y="3809880"/>
            <a:ext cx="228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071"/>
          <p:cNvSpPr/>
          <p:nvPr/>
        </p:nvSpPr>
        <p:spPr>
          <a:xfrm flipV="1">
            <a:off x="4533840" y="4267080"/>
            <a:ext cx="304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077" descr="ANSI_logo"/>
          <p:cNvPicPr/>
          <p:nvPr/>
        </p:nvPicPr>
        <p:blipFill>
          <a:blip r:embed="rId2"/>
          <a:stretch/>
        </p:blipFill>
        <p:spPr>
          <a:xfrm>
            <a:off x="457200" y="274320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78" descr="ISO LOGO"/>
          <p:cNvPicPr/>
          <p:nvPr/>
        </p:nvPicPr>
        <p:blipFill>
          <a:blip r:embed="rId3"/>
          <a:stretch/>
        </p:blipFill>
        <p:spPr>
          <a:xfrm>
            <a:off x="2895480" y="2286000"/>
            <a:ext cx="990720" cy="89208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2079"/>
          <p:cNvSpPr/>
          <p:nvPr/>
        </p:nvSpPr>
        <p:spPr>
          <a:xfrm>
            <a:off x="990720" y="3657600"/>
            <a:ext cx="1295280" cy="762120"/>
          </a:xfrm>
          <a:prstGeom prst="horizontalScroll">
            <a:avLst>
              <a:gd name="adj" fmla="val 9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025: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080"/>
          <p:cNvSpPr/>
          <p:nvPr/>
        </p:nvSpPr>
        <p:spPr>
          <a:xfrm>
            <a:off x="5562720" y="5105520"/>
            <a:ext cx="3124080" cy="761760"/>
          </a:xfrm>
          <a:custGeom>
            <a:avLst/>
            <a:gdLst>
              <a:gd name="textAreaLeft" fmla="*/ 780840 w 3124080"/>
              <a:gd name="textAreaRight" fmla="*/ 2343240 w 3124080"/>
              <a:gd name="textAreaTop" fmla="*/ 0 h 761760"/>
              <a:gd name="textAreaBottom" fmla="*/ 666720 h 7617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5189: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81"/>
          <p:cNvSpPr/>
          <p:nvPr/>
        </p:nvSpPr>
        <p:spPr>
          <a:xfrm>
            <a:off x="6324480" y="4114800"/>
            <a:ext cx="1219320" cy="838080"/>
          </a:xfrm>
          <a:prstGeom prst="horizontalScroll">
            <a:avLst>
              <a:gd name="adj" fmla="val 902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1: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181480" y="990720"/>
          <a:ext cx="3810240" cy="2209680"/>
        </p:xfrm>
        <a:graphic>
          <a:graphicData uri="http://schemas.openxmlformats.org/drawingml/2006/table">
            <a:tbl>
              <a:tblPr/>
              <a:tblGrid>
                <a:gridCol w="1270080"/>
                <a:gridCol w="1092240"/>
                <a:gridCol w="144792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rgentina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Austri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Belgium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Brazil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anada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hi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hin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Czech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Den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Finl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Germany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ran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r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sra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Ital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Jama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Japan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Korea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Mexi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etherlan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ew Zealand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Norway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Portugal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ingapore 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pain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weden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Switzerland 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Turkey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597"/>
                          </a:solidFill>
                          <a:latin typeface="Verdana"/>
                        </a:rPr>
                        <a:t>United St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5760">
                      <a:solidFill>
                        <a:srgbClr val="cc0000"/>
                      </a:solidFill>
                    </a:lnT>
                    <a:lnB w="5760">
                      <a:solidFill>
                        <a:srgbClr val="cc0000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sp>
        <p:nvSpPr>
          <p:cNvPr id="128" name="Line 2100"/>
          <p:cNvSpPr/>
          <p:nvPr/>
        </p:nvSpPr>
        <p:spPr>
          <a:xfrm>
            <a:off x="4038480" y="3505320"/>
            <a:ext cx="1524240" cy="1676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01"/>
          <p:cNvSpPr/>
          <p:nvPr/>
        </p:nvSpPr>
        <p:spPr>
          <a:xfrm flipH="1">
            <a:off x="4952520" y="3581280"/>
            <a:ext cx="38124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103"/>
          <p:cNvSpPr/>
          <p:nvPr/>
        </p:nvSpPr>
        <p:spPr>
          <a:xfrm rot="730200">
            <a:off x="2514240" y="4038120"/>
            <a:ext cx="2057400" cy="533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04"/>
          <p:cNvSpPr/>
          <p:nvPr/>
        </p:nvSpPr>
        <p:spPr>
          <a:xfrm flipH="1">
            <a:off x="5334120" y="4419720"/>
            <a:ext cx="914400" cy="45720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05"/>
          <p:cNvSpPr/>
          <p:nvPr/>
        </p:nvSpPr>
        <p:spPr>
          <a:xfrm>
            <a:off x="7592400" y="4191120"/>
            <a:ext cx="137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age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10"/>
          <p:cNvGrpSpPr/>
          <p:nvPr/>
        </p:nvGrpSpPr>
        <p:grpSpPr>
          <a:xfrm>
            <a:off x="990720" y="5029200"/>
            <a:ext cx="3886200" cy="731520"/>
            <a:chOff x="990720" y="5029200"/>
            <a:chExt cx="3886200" cy="731520"/>
          </a:xfrm>
        </p:grpSpPr>
        <p:sp>
          <p:nvSpPr>
            <p:cNvPr id="134" name="Rectangle 2106"/>
            <p:cNvSpPr/>
            <p:nvPr/>
          </p:nvSpPr>
          <p:spPr>
            <a:xfrm>
              <a:off x="990720" y="5029200"/>
              <a:ext cx="38862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2109"/>
            <p:cNvGrpSpPr/>
            <p:nvPr/>
          </p:nvGrpSpPr>
          <p:grpSpPr>
            <a:xfrm>
              <a:off x="990720" y="5029200"/>
              <a:ext cx="3724560" cy="731520"/>
              <a:chOff x="990720" y="5029200"/>
              <a:chExt cx="3724560" cy="731520"/>
            </a:xfrm>
          </p:grpSpPr>
          <p:sp>
            <p:nvSpPr>
              <p:cNvPr id="136" name="Rectangle 2107"/>
              <p:cNvSpPr/>
              <p:nvPr/>
            </p:nvSpPr>
            <p:spPr>
              <a:xfrm>
                <a:off x="990720" y="5029200"/>
                <a:ext cx="37245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108"/>
              <p:cNvSpPr/>
              <p:nvPr/>
            </p:nvSpPr>
            <p:spPr>
              <a:xfrm>
                <a:off x="990720" y="5076360"/>
                <a:ext cx="3724560" cy="68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General requirements for the competence of testing and calibration laboratories</a:t>
                </a:r>
                <a:r>
                  <a:rPr b="1" lang="en-US" sz="1200" spc="-1" strike="noStrike">
                    <a:solidFill>
                      <a:srgbClr val="002597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2115"/>
          <p:cNvGrpSpPr/>
          <p:nvPr/>
        </p:nvGrpSpPr>
        <p:grpSpPr>
          <a:xfrm>
            <a:off x="5638680" y="5896080"/>
            <a:ext cx="2895840" cy="807120"/>
            <a:chOff x="5638680" y="5896080"/>
            <a:chExt cx="2895840" cy="807120"/>
          </a:xfrm>
        </p:grpSpPr>
        <p:sp>
          <p:nvSpPr>
            <p:cNvPr id="139" name="Rectangle 2111"/>
            <p:cNvSpPr/>
            <p:nvPr/>
          </p:nvSpPr>
          <p:spPr>
            <a:xfrm>
              <a:off x="5638680" y="5896080"/>
              <a:ext cx="2895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114"/>
            <p:cNvGrpSpPr/>
            <p:nvPr/>
          </p:nvGrpSpPr>
          <p:grpSpPr>
            <a:xfrm>
              <a:off x="5638680" y="5896080"/>
              <a:ext cx="2775600" cy="807120"/>
              <a:chOff x="5638680" y="5896080"/>
              <a:chExt cx="2775600" cy="807120"/>
            </a:xfrm>
          </p:grpSpPr>
          <p:sp>
            <p:nvSpPr>
              <p:cNvPr id="141" name="Rectangle 2112"/>
              <p:cNvSpPr/>
              <p:nvPr/>
            </p:nvSpPr>
            <p:spPr>
              <a:xfrm>
                <a:off x="5638680" y="5896080"/>
                <a:ext cx="277560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2113"/>
              <p:cNvSpPr/>
              <p:nvPr/>
            </p:nvSpPr>
            <p:spPr>
              <a:xfrm>
                <a:off x="5638680" y="5943600"/>
                <a:ext cx="2775600" cy="75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Medical Laboratories –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Particular requirements for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Verdana"/>
                  </a:rPr>
                  <a:t>quality and competence</a:t>
                </a:r>
                <a:r>
                  <a:rPr b="0" lang="en-US" sz="1200" spc="-1" strike="noStrike">
                    <a:solidFill>
                      <a:srgbClr val="ffcc00"/>
                    </a:solidFill>
                    <a:latin typeface="Verdan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76920" y="2743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26D31-20BC-4B2D-80C8-BA29A1BCF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SO 15189 Family of Doc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8001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15189:200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ular requirements for quality and compet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15190:200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safe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 22870: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int-of-care testing (POCT)—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quality and compet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/TR 22869: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dance on laboratory implementation of ISO 15189:200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SO/TS 22367:2008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l laboratories–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tion of error through risk manag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continual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Laboratory Quality Management Systems-Module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BB93C-B32B-4305-998B-97322B315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4T20:58:20Z</dcterms:modified>
  <cp:revision>122</cp:revision>
  <dc:subject/>
  <dc:title>Slide 1</dc:title>
</cp:coreProperties>
</file>